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5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6.jpeg" ContentType="image/jpeg"/>
  <Override PartName="/ppt/media/image58.wmf" ContentType="image/x-wmf"/>
  <Override PartName="/ppt/media/image22.wmf" ContentType="image/x-wmf"/>
  <Override PartName="/ppt/media/image59.wmf" ContentType="image/x-wmf"/>
  <Override PartName="/ppt/media/image65.wmf" ContentType="image/x-wmf"/>
  <Override PartName="/ppt/media/image66.wmf" ContentType="image/x-wmf"/>
  <Override PartName="/ppt/media/image29.wmf" ContentType="image/x-wmf"/>
  <Override PartName="/ppt/media/image64.wmf" ContentType="image/x-wmf"/>
  <Override PartName="/ppt/media/image27.wmf" ContentType="image/x-wmf"/>
  <Override PartName="/ppt/media/image63.wmf" ContentType="image/x-wmf"/>
  <Override PartName="/ppt/media/image26.wmf" ContentType="image/x-wmf"/>
  <Override PartName="/ppt/media/image62.wmf" ContentType="image/x-wmf"/>
  <Override PartName="/ppt/media/image25.wmf" ContentType="image/x-wmf"/>
  <Override PartName="/ppt/media/image61.wmf" ContentType="image/x-wmf"/>
  <Override PartName="/ppt/media/image24.wmf" ContentType="image/x-wmf"/>
  <Override PartName="/ppt/media/image23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0F5F-4375-49E0-B167-47902400F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adical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quations 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quation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-1 is an extraneous solu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-1 is an extran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et up the equation so that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 will be one radical 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x + 4 = x + 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Verify your solu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ution 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the equation s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one radical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4 = x +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your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ing a Binomi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a + 2)2 = a2 + 4a 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te that the middle term i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wice the product of the two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erms of the binomia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a√x + b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 5 + √x - 2 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ddle term will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be twice the produc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f the two term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 final concept that you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hould know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= a2x + ab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= a2(x + b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ing a B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+ 2)2 = a2 + 4a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middle term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ce the product of the 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s of the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√x + b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5 + √x - 2 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term wi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twice the pro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two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nal concept that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kn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2x +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2(x +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et up the equa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 that there will b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nly one radical 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f the 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 by divid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by a common factor of 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 of th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at there will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radical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by divi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 common factor of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istribute the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 the quadratic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 for x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= 0    or  x - 7 = 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    or       x = 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Verify both solution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quadrat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= 0    or  x -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   or       x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both solu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ne more to see another extraneous solution: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radical is already isolate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 must square the whole side NOT each term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nce you have a quadratic equation (has an x2 term) get everything on one side = 0 and see if you can factor th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 MUST check these answer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must be FOILe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oesn't work!</a:t>
            </a:r>
            <a:br>
              <a:rPr sz="1200"/>
            </a:b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xtraneou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ore to see another extraneous solu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dical is already is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square the whole side NOT each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you have a quadratic equation (has an x2 term) get everything on one side = 0 and see if you can factor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check these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ust be FO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't work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et's try another one: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irst isolate the radic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w since it is a 1/3 power this means the same as a cube root so cub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w solve for 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et's check this answer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that the 1/3 power means the same thing as a cube root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try another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isolate the ra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ince it is a 1/3 power this means the same as a cube root so cub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olve f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check this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the 1/3 power means the same thing as a cube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Graph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domain is  x &gt; -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range is y &gt; 0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Graphing a Radical Func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is  x &gt; 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is y &gt;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a Radic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ow Do We Solve Radical Equations?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o Now: Simplify the given express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.                                   2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olve Radical Equ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Simplify the given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                                2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will be th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ntersection of the graph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d the graph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 = 0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will b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ection of the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grap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  or x = 7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 or x =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ind the values for which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above the graph of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 = 3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s intersect a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te the radic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x - 3 is defined only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when          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&gt;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&gt;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alues fo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ve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s intersect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ra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x - 3 is defined on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      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&gt;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&g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i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&lt; x and x &lt; 8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s intersect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t the point whe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8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-1 and x &lt;  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&gt; -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&lt; x and x &lt;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s inters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point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-1 and x &lt;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&gt;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 equation in which a variable occurs in the radican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called a radical equation. It should be noted, tha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when solving a radical equation algebraically,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xtraneous roots may be introduced when both sides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 equation are squared. Therefore, you must check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r solutions for a radical 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:  √ x - 3  - 3 = 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 =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√ x - 3  )2 = (3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= 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1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2 - 3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in which a variable occurs in the radic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lled a radical equation. It should be noted,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a radical equation algebraicall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ous roots may be introduced when both side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are squared. Therefore, you must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solutions for a radical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:  √ x - 3  - 3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√ x - 3  )2 = (3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- 3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√ 4 + x2  = x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x2  = x -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x2 = x2 - 8x + 1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x = 1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nc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extraneous. Therefore,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 are no real root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√ 4 + x2)2 = (x - 4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√ 4 + x2  =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x2  = 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x2 = x2 - 8x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xtraneous. Therefo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√ 4 + x2)2 = (x - 4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FC72-2490-4B54-A2AE-755F566C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2D7A-5F9E-40DD-AEEA-4F418215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D3FA-47FE-4604-A838-7B1CE2CC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D7A-A78D-40C3-8484-BABB581A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70A71-3FE8-4C6C-8819-1194580C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920CD-4610-4AF7-AAC2-9E7E5D8A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77022-627A-447C-968E-C33C03E8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A499B-20F2-4371-AAB4-D3ABA4C5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0B8BB-C637-454E-9865-19B417A0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60D2F-7E5C-4001-964E-166E6994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627CB-3A1D-47AD-9314-76206701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81B-2C68-4FFE-923A-196D8E7F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35983-A965-42DD-A821-3963A1C0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BF5A1-562A-4864-A856-E9E45674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FE1F1-048B-40AC-825F-5869F0CF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6A811-54E9-4097-A910-E514BBA9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C307D-1E07-4D02-9D91-FDD67897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7219-B193-422F-BA54-4731BC12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7D4B-1F6D-434F-8C71-C1AE8121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155-BA76-4071-B50C-FF7CA1E3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DF2-0A41-440E-BB23-21EF74E7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81D-A915-4045-8583-0588A301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38B6-F55C-49FD-A687-0F63CAB8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763-11DF-4CD3-AE08-E130C325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DC2F-30E7-4020-AA26-BB7445D92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AC06-5DAC-4A74-AB0F-92C7A444F945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5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685800" y="1295280"/>
            <a:ext cx="8001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Radica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Equation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600200" y="457200"/>
          <a:ext cx="539424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57200"/>
                    <a:ext cx="539424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219320" y="457200"/>
          <a:ext cx="4422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4422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6"/>
          <p:cNvSpPr/>
          <p:nvPr/>
        </p:nvSpPr>
        <p:spPr>
          <a:xfrm>
            <a:off x="685800" y="57207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 = -1 is an extraneous solution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100000">
              <a:srgbClr val="d6d6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2"/>
          <p:cNvGraphicFramePr/>
          <p:nvPr/>
        </p:nvGraphicFramePr>
        <p:xfrm>
          <a:off x="1266840" y="866880"/>
          <a:ext cx="311940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866880"/>
                    <a:ext cx="311940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3"/>
          <p:cNvSpPr/>
          <p:nvPr/>
        </p:nvSpPr>
        <p:spPr>
          <a:xfrm>
            <a:off x="5943960" y="1574640"/>
            <a:ext cx="3131280" cy="1008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et up the equation so that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here will be one radical 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ch side of the equal sig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838080" y="1920960"/>
          <a:ext cx="29131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20960"/>
                    <a:ext cx="29131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5"/>
          <p:cNvSpPr/>
          <p:nvPr/>
        </p:nvSpPr>
        <p:spPr>
          <a:xfrm>
            <a:off x="5945400" y="2717640"/>
            <a:ext cx="217116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644400" y="2514600"/>
          <a:ext cx="3368880" cy="64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400" y="2514600"/>
                    <a:ext cx="33688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5947200" y="3200400"/>
            <a:ext cx="1227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231560" y="3092400"/>
            <a:ext cx="22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4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7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5943960" y="4241880"/>
            <a:ext cx="24408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erify your solu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86" name="Object 10"/>
          <p:cNvGraphicFramePr/>
          <p:nvPr/>
        </p:nvGraphicFramePr>
        <p:xfrm>
          <a:off x="514440" y="4595760"/>
          <a:ext cx="3473280" cy="102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440" y="4595760"/>
                    <a:ext cx="34732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1"/>
          <p:cNvGraphicFramePr/>
          <p:nvPr/>
        </p:nvGraphicFramePr>
        <p:xfrm>
          <a:off x="4114800" y="4648320"/>
          <a:ext cx="1298520" cy="190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4648320"/>
                    <a:ext cx="12985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12"/>
          <p:cNvSpPr/>
          <p:nvPr/>
        </p:nvSpPr>
        <p:spPr>
          <a:xfrm>
            <a:off x="6005520" y="4799160"/>
            <a:ext cx="2347920" cy="13737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th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ution 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4649040" y="9144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≥ -2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290160" y="914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228960" y="4752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Line 18"/>
          <p:cNvSpPr/>
          <p:nvPr/>
        </p:nvSpPr>
        <p:spPr>
          <a:xfrm>
            <a:off x="3429000" y="4267080"/>
            <a:ext cx="0" cy="24386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95" name="Object 19"/>
          <p:cNvGraphicFramePr/>
          <p:nvPr/>
        </p:nvGraphicFramePr>
        <p:xfrm>
          <a:off x="376200" y="5205240"/>
          <a:ext cx="2801880" cy="157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6200" y="5205240"/>
                    <a:ext cx="28018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20"/>
          <p:cNvSpPr/>
          <p:nvPr/>
        </p:nvSpPr>
        <p:spPr>
          <a:xfrm>
            <a:off x="457200" y="4419720"/>
            <a:ext cx="41911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1587600" y="402264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d3"/>
            </a:gs>
            <a:gs pos="50000">
              <a:srgbClr val="ffffcc"/>
            </a:gs>
            <a:gs pos="100000">
              <a:srgbClr val="bdffd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922480" y="-7632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quaring a Binomial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90480" y="83808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2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4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4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346640" y="609480"/>
            <a:ext cx="3911400" cy="11912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Note that the middle term is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wice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the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product of the two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erms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of the binomial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963680" y="5014800"/>
            <a:ext cx="16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925920" y="204300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 5 + √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2 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390920" y="2347920"/>
            <a:ext cx="2995560" cy="11912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middle term will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be twice the product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of the two term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05" name="Object 11"/>
          <p:cNvGraphicFramePr/>
          <p:nvPr/>
        </p:nvGraphicFramePr>
        <p:xfrm>
          <a:off x="900000" y="2716200"/>
          <a:ext cx="216216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16200"/>
                    <a:ext cx="21621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12"/>
          <p:cNvSpPr/>
          <p:nvPr/>
        </p:nvSpPr>
        <p:spPr>
          <a:xfrm>
            <a:off x="1994040" y="2081160"/>
            <a:ext cx="6094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5562720" y="5052960"/>
            <a:ext cx="6094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09" name="Object 14"/>
          <p:cNvGraphicFramePr/>
          <p:nvPr/>
        </p:nvGraphicFramePr>
        <p:xfrm>
          <a:off x="669960" y="4024440"/>
          <a:ext cx="1920960" cy="6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960" y="4024440"/>
                    <a:ext cx="19209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5"/>
          <p:cNvSpPr/>
          <p:nvPr/>
        </p:nvSpPr>
        <p:spPr>
          <a:xfrm>
            <a:off x="228600" y="4024440"/>
            <a:ext cx="4038480" cy="20574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4785480" y="400860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 final concept that you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should know: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4648320" y="4011480"/>
            <a:ext cx="3886200" cy="20574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762120" y="2576520"/>
            <a:ext cx="2438280" cy="13716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3225960" y="3262320"/>
            <a:ext cx="1143000" cy="304920"/>
          </a:xfrm>
          <a:prstGeom prst="leftArrow">
            <a:avLst>
              <a:gd name="adj1" fmla="val 50000"/>
              <a:gd name="adj2" fmla="val 93713"/>
            </a:avLst>
          </a:prstGeom>
          <a:solidFill>
            <a:srgbClr val="cc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3048120" y="2271600"/>
            <a:ext cx="1295280" cy="243000"/>
          </a:xfrm>
          <a:prstGeom prst="rightArrow">
            <a:avLst>
              <a:gd name="adj1" fmla="val 50000"/>
              <a:gd name="adj2" fmla="val 133259"/>
            </a:avLst>
          </a:prstGeom>
          <a:solidFill>
            <a:srgbClr val="cc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17" name="Object 21"/>
          <p:cNvGraphicFramePr/>
          <p:nvPr/>
        </p:nvGraphicFramePr>
        <p:xfrm>
          <a:off x="380880" y="4786200"/>
          <a:ext cx="76212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786200"/>
                    <a:ext cx="762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22"/>
          <p:cNvGraphicFramePr/>
          <p:nvPr/>
        </p:nvGraphicFramePr>
        <p:xfrm>
          <a:off x="1112760" y="4735440"/>
          <a:ext cx="1735200" cy="44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2760" y="4735440"/>
                    <a:ext cx="17352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23"/>
          <p:cNvGraphicFramePr/>
          <p:nvPr/>
        </p:nvGraphicFramePr>
        <p:xfrm>
          <a:off x="2895480" y="4767120"/>
          <a:ext cx="1371600" cy="43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4767120"/>
                    <a:ext cx="13716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24"/>
          <p:cNvGraphicFramePr/>
          <p:nvPr/>
        </p:nvGraphicFramePr>
        <p:xfrm>
          <a:off x="380880" y="5319720"/>
          <a:ext cx="3124440" cy="47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5319720"/>
                    <a:ext cx="31244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25"/>
          <p:cNvSpPr/>
          <p:nvPr/>
        </p:nvSpPr>
        <p:spPr>
          <a:xfrm>
            <a:off x="6589080" y="539604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6599160" y="50277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50000">
              <a:srgbClr val="c9ffdb"/>
            </a:gs>
            <a:gs pos="100000">
              <a:srgbClr val="d6d6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2"/>
          <p:cNvGraphicFramePr/>
          <p:nvPr/>
        </p:nvGraphicFramePr>
        <p:xfrm>
          <a:off x="1077840" y="838080"/>
          <a:ext cx="357048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838080"/>
                    <a:ext cx="35704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3"/>
          <p:cNvSpPr/>
          <p:nvPr/>
        </p:nvSpPr>
        <p:spPr>
          <a:xfrm>
            <a:off x="5998320" y="609480"/>
            <a:ext cx="3070080" cy="1313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et up the equati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o that there will be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only one radical 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ch side of the equal sig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983920" y="2006640"/>
            <a:ext cx="21070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of the equa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995080" y="3556080"/>
            <a:ext cx="11638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992200" y="4191120"/>
            <a:ext cx="289044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 by dividing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by a common factor of 2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81400" y="5257800"/>
            <a:ext cx="28522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 of the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qua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34" name="Object 8"/>
          <p:cNvGraphicFramePr/>
          <p:nvPr/>
        </p:nvGraphicFramePr>
        <p:xfrm>
          <a:off x="38160" y="2209680"/>
          <a:ext cx="4114800" cy="6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2209680"/>
                    <a:ext cx="41148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9"/>
          <p:cNvGraphicFramePr/>
          <p:nvPr/>
        </p:nvGraphicFramePr>
        <p:xfrm>
          <a:off x="660240" y="3009960"/>
          <a:ext cx="990720" cy="38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3009960"/>
                    <a:ext cx="9907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0"/>
          <p:cNvGraphicFramePr/>
          <p:nvPr/>
        </p:nvGraphicFramePr>
        <p:xfrm>
          <a:off x="685800" y="3568680"/>
          <a:ext cx="411480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568680"/>
                    <a:ext cx="4114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1"/>
          <p:cNvGraphicFramePr/>
          <p:nvPr/>
        </p:nvGraphicFramePr>
        <p:xfrm>
          <a:off x="609480" y="4191120"/>
          <a:ext cx="289584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191120"/>
                    <a:ext cx="2895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2"/>
          <p:cNvGraphicFramePr/>
          <p:nvPr/>
        </p:nvGraphicFramePr>
        <p:xfrm>
          <a:off x="914400" y="4800600"/>
          <a:ext cx="266688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4800600"/>
                    <a:ext cx="26668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3"/>
          <p:cNvGraphicFramePr/>
          <p:nvPr/>
        </p:nvGraphicFramePr>
        <p:xfrm>
          <a:off x="571680" y="5334120"/>
          <a:ext cx="3276360" cy="67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5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680" y="5334120"/>
                    <a:ext cx="327636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4"/>
          <p:cNvGraphicFramePr/>
          <p:nvPr/>
        </p:nvGraphicFramePr>
        <p:xfrm>
          <a:off x="0" y="6095880"/>
          <a:ext cx="342900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0" y="6095880"/>
                    <a:ext cx="34290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15"/>
          <p:cNvSpPr/>
          <p:nvPr/>
        </p:nvSpPr>
        <p:spPr>
          <a:xfrm>
            <a:off x="5986440" y="6202440"/>
            <a:ext cx="1128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Use Foil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49" name="Object 16"/>
          <p:cNvGraphicFramePr/>
          <p:nvPr/>
        </p:nvGraphicFramePr>
        <p:xfrm>
          <a:off x="380880" y="1600200"/>
          <a:ext cx="3429000" cy="474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0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0880" y="1600200"/>
                    <a:ext cx="34290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17"/>
          <p:cNvSpPr/>
          <p:nvPr/>
        </p:nvSpPr>
        <p:spPr>
          <a:xfrm>
            <a:off x="5998320" y="2886120"/>
            <a:ext cx="131616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Foil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52" name="Object 18"/>
          <p:cNvGraphicFramePr/>
          <p:nvPr/>
        </p:nvGraphicFramePr>
        <p:xfrm>
          <a:off x="1663560" y="3013200"/>
          <a:ext cx="609840" cy="353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3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63560" y="3013200"/>
                    <a:ext cx="6098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9"/>
          <p:cNvGraphicFramePr/>
          <p:nvPr/>
        </p:nvGraphicFramePr>
        <p:xfrm>
          <a:off x="2273400" y="2975040"/>
          <a:ext cx="1676160" cy="44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5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73400" y="2975040"/>
                    <a:ext cx="16761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20"/>
          <p:cNvGraphicFramePr/>
          <p:nvPr/>
        </p:nvGraphicFramePr>
        <p:xfrm>
          <a:off x="4038480" y="2975040"/>
          <a:ext cx="1511280" cy="430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7" name="Object 2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038480" y="2975040"/>
                    <a:ext cx="1511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22"/>
          <p:cNvSpPr/>
          <p:nvPr/>
        </p:nvSpPr>
        <p:spPr>
          <a:xfrm>
            <a:off x="77400" y="8431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2438640" y="144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50000">
              <a:srgbClr val="c9ffdb"/>
            </a:gs>
            <a:gs pos="100000">
              <a:srgbClr val="d6d6d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Object 2"/>
          <p:cNvGraphicFramePr/>
          <p:nvPr/>
        </p:nvGraphicFramePr>
        <p:xfrm>
          <a:off x="952560" y="609480"/>
          <a:ext cx="350532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09480"/>
                    <a:ext cx="35053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3"/>
          <p:cNvSpPr/>
          <p:nvPr/>
        </p:nvSpPr>
        <p:spPr>
          <a:xfrm>
            <a:off x="5648400" y="533520"/>
            <a:ext cx="19440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Distribute the 4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3" name="Object 4"/>
          <p:cNvGraphicFramePr/>
          <p:nvPr/>
        </p:nvGraphicFramePr>
        <p:xfrm>
          <a:off x="914400" y="1066680"/>
          <a:ext cx="3581280" cy="4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066680"/>
                    <a:ext cx="358128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5"/>
          <p:cNvSpPr/>
          <p:nvPr/>
        </p:nvSpPr>
        <p:spPr>
          <a:xfrm>
            <a:off x="5664600" y="1079640"/>
            <a:ext cx="11638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660240" y="1600200"/>
          <a:ext cx="266724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1600200"/>
                    <a:ext cx="2667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7"/>
          <p:cNvSpPr/>
          <p:nvPr/>
        </p:nvSpPr>
        <p:spPr>
          <a:xfrm>
            <a:off x="5642640" y="1676520"/>
            <a:ext cx="24973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Factor the quadratic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9" name="Object 8"/>
          <p:cNvGraphicFramePr/>
          <p:nvPr/>
        </p:nvGraphicFramePr>
        <p:xfrm>
          <a:off x="685800" y="2158920"/>
          <a:ext cx="266688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2158920"/>
                    <a:ext cx="26668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9"/>
          <p:cNvSpPr/>
          <p:nvPr/>
        </p:nvSpPr>
        <p:spPr>
          <a:xfrm>
            <a:off x="5641200" y="2438280"/>
            <a:ext cx="1407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olve for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640080" y="2590920"/>
            <a:ext cx="3655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 - 3 = 0    or  </a:t>
            </a: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 - 7 = 0</a:t>
            </a:r>
            <a:endParaRPr b="0" lang="en-US" sz="3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= 3    or       </a:t>
            </a:r>
            <a:r>
              <a:rPr b="1" i="1" lang="en-US" sz="30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= 7</a:t>
            </a:r>
            <a:endParaRPr b="0" lang="en-US" sz="3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5638680" y="3200400"/>
            <a:ext cx="25261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erify both solutions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74" name="Object 12"/>
          <p:cNvGraphicFramePr/>
          <p:nvPr/>
        </p:nvGraphicFramePr>
        <p:xfrm>
          <a:off x="36360" y="4521240"/>
          <a:ext cx="4307040" cy="218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60" y="4521240"/>
                    <a:ext cx="430704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13"/>
          <p:cNvGraphicFramePr/>
          <p:nvPr/>
        </p:nvGraphicFramePr>
        <p:xfrm>
          <a:off x="4875120" y="4495680"/>
          <a:ext cx="4119480" cy="2133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7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5120" y="4495680"/>
                    <a:ext cx="41194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4"/>
          <p:cNvGraphicFramePr/>
          <p:nvPr/>
        </p:nvGraphicFramePr>
        <p:xfrm>
          <a:off x="4191120" y="5562720"/>
          <a:ext cx="934920" cy="1066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9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91120" y="5562720"/>
                    <a:ext cx="9349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15"/>
          <p:cNvGraphicFramePr/>
          <p:nvPr/>
        </p:nvGraphicFramePr>
        <p:xfrm>
          <a:off x="8185320" y="5562720"/>
          <a:ext cx="882360" cy="99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1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85320" y="5562720"/>
                    <a:ext cx="882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7"/>
          <p:cNvSpPr/>
          <p:nvPr/>
        </p:nvSpPr>
        <p:spPr>
          <a:xfrm>
            <a:off x="76680" y="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3733920" y="4419720"/>
            <a:ext cx="0" cy="2438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457200" y="4419720"/>
            <a:ext cx="43434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1968480" y="39466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.S.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6" name="Line 23"/>
          <p:cNvSpPr/>
          <p:nvPr/>
        </p:nvSpPr>
        <p:spPr>
          <a:xfrm>
            <a:off x="8153280" y="4435560"/>
            <a:ext cx="0" cy="2438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7" name="Line 24"/>
          <p:cNvSpPr/>
          <p:nvPr/>
        </p:nvSpPr>
        <p:spPr>
          <a:xfrm>
            <a:off x="4876920" y="4435560"/>
            <a:ext cx="43434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6388200" y="396252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.S.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04920" y="3808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ne more to see another extraneous solution: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228600" y="1144440"/>
                <a:ext cx="35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Text Box 4"/>
          <p:cNvSpPr/>
          <p:nvPr/>
        </p:nvSpPr>
        <p:spPr>
          <a:xfrm>
            <a:off x="388620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radical is already isolate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304920" y="2209680"/>
            <a:ext cx="1828800" cy="9907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2133720" y="1981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590920" y="2286000"/>
            <a:ext cx="1143000" cy="838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37339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3962520" y="259092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must square the whole side NOT each term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0"/>
              <p:cNvSpPr txBox="1"/>
              <p:nvPr/>
            </p:nvSpPr>
            <p:spPr>
              <a:xfrm>
                <a:off x="228600" y="3657600"/>
                <a:ext cx="44276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Text Box 11"/>
          <p:cNvSpPr/>
          <p:nvPr/>
        </p:nvSpPr>
        <p:spPr>
          <a:xfrm>
            <a:off x="4191120" y="21337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quare both sid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304920" y="4495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nce you have a quadratic equation (has an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term) get everything on one side = 0 and see if you can factor th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3"/>
              <p:cNvSpPr txBox="1"/>
              <p:nvPr/>
            </p:nvSpPr>
            <p:spPr>
              <a:xfrm>
                <a:off x="685800" y="6019920"/>
                <a:ext cx="26449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14"/>
          <p:cNvSpPr/>
          <p:nvPr/>
        </p:nvSpPr>
        <p:spPr>
          <a:xfrm>
            <a:off x="4952880" y="39625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 MUST check these answer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5"/>
              <p:cNvSpPr txBox="1"/>
              <p:nvPr/>
            </p:nvSpPr>
            <p:spPr>
              <a:xfrm>
                <a:off x="4343400" y="5105520"/>
                <a:ext cx="3753000" cy="17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/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6"/>
              <p:cNvSpPr txBox="1"/>
              <p:nvPr/>
            </p:nvSpPr>
            <p:spPr>
              <a:xfrm>
                <a:off x="304920" y="2209680"/>
                <a:ext cx="35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Text Box 17"/>
          <p:cNvSpPr/>
          <p:nvPr/>
        </p:nvSpPr>
        <p:spPr>
          <a:xfrm>
            <a:off x="3809880" y="32004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is must be FOILe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05" name="Freeform 18"/>
          <p:cNvSpPr/>
          <p:nvPr/>
        </p:nvSpPr>
        <p:spPr>
          <a:xfrm>
            <a:off x="3124080" y="2971800"/>
            <a:ext cx="685800" cy="533520"/>
          </a:xfrm>
          <a:custGeom>
            <a:avLst/>
            <a:gdLst/>
            <a:ahLst/>
            <a:rect l="l" t="t" r="r" b="b"/>
            <a:pathLst>
              <a:path w="432" h="400">
                <a:moveTo>
                  <a:pt x="432" y="384"/>
                </a:moveTo>
                <a:cubicBezTo>
                  <a:pt x="300" y="392"/>
                  <a:pt x="168" y="400"/>
                  <a:pt x="96" y="336"/>
                </a:cubicBezTo>
                <a:cubicBezTo>
                  <a:pt x="24" y="272"/>
                  <a:pt x="12" y="136"/>
                  <a:pt x="0" y="0"/>
                </a:cubicBezTo>
              </a:path>
            </a:pathLst>
          </a:custGeom>
          <a:noFill/>
          <a:ln w="5724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9"/>
              <p:cNvSpPr txBox="1"/>
              <p:nvPr/>
            </p:nvSpPr>
            <p:spPr>
              <a:xfrm>
                <a:off x="380880" y="4495680"/>
                <a:ext cx="34178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0"/>
              <p:cNvSpPr txBox="1"/>
              <p:nvPr/>
            </p:nvSpPr>
            <p:spPr>
              <a:xfrm>
                <a:off x="289080" y="5386320"/>
                <a:ext cx="37558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21"/>
              <p:cNvSpPr txBox="1"/>
              <p:nvPr/>
            </p:nvSpPr>
            <p:spPr>
              <a:xfrm>
                <a:off x="4419720" y="4952880"/>
                <a:ext cx="360828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/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Text Box 22"/>
          <p:cNvSpPr/>
          <p:nvPr/>
        </p:nvSpPr>
        <p:spPr>
          <a:xfrm>
            <a:off x="6248520" y="58672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n't work!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traneou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0" name="Line 23"/>
          <p:cNvSpPr/>
          <p:nvPr/>
        </p:nvSpPr>
        <p:spPr>
          <a:xfrm>
            <a:off x="2209680" y="6172200"/>
            <a:ext cx="121932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1" name="Line 24"/>
          <p:cNvSpPr/>
          <p:nvPr/>
        </p:nvSpPr>
        <p:spPr>
          <a:xfrm flipV="1">
            <a:off x="2222640" y="6019560"/>
            <a:ext cx="1206360" cy="67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2" name="Text Box 25"/>
          <p:cNvSpPr/>
          <p:nvPr/>
        </p:nvSpPr>
        <p:spPr>
          <a:xfrm>
            <a:off x="6019920" y="6019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checks!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3" name="AutoShape 26"/>
          <p:cNvSpPr/>
          <p:nvPr/>
        </p:nvSpPr>
        <p:spPr>
          <a:xfrm>
            <a:off x="609480" y="6095880"/>
            <a:ext cx="1398600" cy="563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4" name="AutoShape 27"/>
          <p:cNvSpPr/>
          <p:nvPr/>
        </p:nvSpPr>
        <p:spPr>
          <a:xfrm>
            <a:off x="3505320" y="457200"/>
            <a:ext cx="36576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pSp>
        <p:nvGrpSpPr>
          <p:cNvPr id="315" name="Group 28"/>
          <p:cNvGrpSpPr/>
          <p:nvPr/>
        </p:nvGrpSpPr>
        <p:grpSpPr>
          <a:xfrm>
            <a:off x="914400" y="914400"/>
            <a:ext cx="8001000" cy="1724760"/>
            <a:chOff x="914400" y="914400"/>
            <a:chExt cx="8001000" cy="1724760"/>
          </a:xfrm>
        </p:grpSpPr>
        <p:sp>
          <p:nvSpPr>
            <p:cNvPr id="316" name="Text Box 29"/>
            <p:cNvSpPr/>
            <p:nvPr/>
          </p:nvSpPr>
          <p:spPr>
            <a:xfrm>
              <a:off x="914400" y="144792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 solution that you find algebraically but DOES NOT make a true statement when you substitute it back into the equation.</a:t>
              </a:r>
              <a:endParaRPr b="0" lang="en-US" sz="2400" spc="-1" strike="noStrike">
                <a:solidFill>
                  <a:srgbClr val="6600cc"/>
                </a:solidFill>
                <a:latin typeface="Tahoma"/>
              </a:endParaRPr>
            </a:p>
          </p:txBody>
        </p:sp>
        <p:sp>
          <p:nvSpPr>
            <p:cNvPr id="317" name="Line 30"/>
            <p:cNvSpPr/>
            <p:nvPr/>
          </p:nvSpPr>
          <p:spPr>
            <a:xfrm flipV="1">
              <a:off x="4190760" y="914400"/>
              <a:ext cx="763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c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0492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's try another one: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3"/>
              <p:cNvSpPr txBox="1"/>
              <p:nvPr/>
            </p:nvSpPr>
            <p:spPr>
              <a:xfrm>
                <a:off x="61920" y="952560"/>
                <a:ext cx="384804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Text Box 4"/>
          <p:cNvSpPr/>
          <p:nvPr/>
        </p:nvSpPr>
        <p:spPr>
          <a:xfrm>
            <a:off x="4267080" y="1295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rst isolate the radical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20968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312408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3" name="Line 7"/>
          <p:cNvSpPr/>
          <p:nvPr/>
        </p:nvSpPr>
        <p:spPr>
          <a:xfrm>
            <a:off x="2286000" y="1219320"/>
            <a:ext cx="45720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8"/>
              <p:cNvSpPr txBox="1"/>
              <p:nvPr/>
            </p:nvSpPr>
            <p:spPr>
              <a:xfrm>
                <a:off x="426960" y="2705040"/>
                <a:ext cx="341640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AutoShape 9"/>
          <p:cNvSpPr/>
          <p:nvPr/>
        </p:nvSpPr>
        <p:spPr>
          <a:xfrm>
            <a:off x="609480" y="2819520"/>
            <a:ext cx="1981440" cy="10666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66688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7" name="AutoShape 11"/>
          <p:cNvSpPr/>
          <p:nvPr/>
        </p:nvSpPr>
        <p:spPr>
          <a:xfrm>
            <a:off x="3048120" y="2971800"/>
            <a:ext cx="685800" cy="838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3733920" y="2743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3"/>
              <p:cNvSpPr txBox="1"/>
              <p:nvPr/>
            </p:nvSpPr>
            <p:spPr>
              <a:xfrm>
                <a:off x="681120" y="4133880"/>
                <a:ext cx="2598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Text Box 14"/>
          <p:cNvSpPr/>
          <p:nvPr/>
        </p:nvSpPr>
        <p:spPr>
          <a:xfrm>
            <a:off x="4191120" y="2133720"/>
            <a:ext cx="419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w since it is a 1/3 power this means the same as a cube root so cube both sid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4038480" y="4114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w solve for x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1523880" y="4724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2590920" y="4724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8"/>
              <p:cNvSpPr txBox="1"/>
              <p:nvPr/>
            </p:nvSpPr>
            <p:spPr>
              <a:xfrm>
                <a:off x="966960" y="5257800"/>
                <a:ext cx="1971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9"/>
              <p:cNvSpPr txBox="1"/>
              <p:nvPr/>
            </p:nvSpPr>
            <p:spPr>
              <a:xfrm>
                <a:off x="1147680" y="5967360"/>
                <a:ext cx="1635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Text Box 20"/>
          <p:cNvSpPr/>
          <p:nvPr/>
        </p:nvSpPr>
        <p:spPr>
          <a:xfrm>
            <a:off x="350532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t's check this answer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21"/>
              <p:cNvSpPr txBox="1"/>
              <p:nvPr/>
            </p:nvSpPr>
            <p:spPr>
              <a:xfrm>
                <a:off x="3833640" y="5257800"/>
                <a:ext cx="40896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2"/>
              <p:cNvSpPr txBox="1"/>
              <p:nvPr/>
            </p:nvSpPr>
            <p:spPr>
              <a:xfrm>
                <a:off x="3890880" y="6059520"/>
                <a:ext cx="1298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 Box 23"/>
          <p:cNvSpPr/>
          <p:nvPr/>
        </p:nvSpPr>
        <p:spPr>
          <a:xfrm>
            <a:off x="5324400" y="613584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checks!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40" name="Text Box 24"/>
          <p:cNvSpPr/>
          <p:nvPr/>
        </p:nvSpPr>
        <p:spPr>
          <a:xfrm>
            <a:off x="4267080" y="18288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ember that the 1/3 power means the same thing as a cube root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0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1655640" y="696960"/>
          <a:ext cx="217008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696960"/>
                    <a:ext cx="21700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 Box 3"/>
          <p:cNvSpPr/>
          <p:nvPr/>
        </p:nvSpPr>
        <p:spPr>
          <a:xfrm>
            <a:off x="281160" y="74772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Graph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3"/>
          <a:stretch/>
        </p:blipFill>
        <p:spPr>
          <a:xfrm>
            <a:off x="320760" y="1585800"/>
            <a:ext cx="6019560" cy="36482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803160" y="5562720"/>
            <a:ext cx="3454560" cy="9471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domain is 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range is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0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2577600" y="-460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Graphing a Radical Func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How Do We Solve Radical Equations?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Do Now: </a:t>
            </a:r>
            <a:r>
              <a:rPr b="0" i="1" lang="en-US" sz="3200" spc="-1" strike="noStrike">
                <a:solidFill>
                  <a:srgbClr val="6600cc"/>
                </a:solidFill>
                <a:latin typeface="Tahoma"/>
              </a:rPr>
              <a:t>Simplify the given expression.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1.                                   2. 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1295280" cy="1157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1315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50000">
              <a:srgbClr val="ffffd9"/>
            </a:gs>
            <a:gs pos="100000">
              <a:srgbClr val="c9ffd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539280" y="915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0" y="1603440"/>
            <a:ext cx="4800600" cy="35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9" name="Object 5"/>
          <p:cNvGraphicFramePr/>
          <p:nvPr/>
        </p:nvGraphicFramePr>
        <p:xfrm>
          <a:off x="1596960" y="930240"/>
          <a:ext cx="2979720" cy="44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6960" y="930240"/>
                    <a:ext cx="2979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Text Box 6"/>
          <p:cNvSpPr/>
          <p:nvPr/>
        </p:nvSpPr>
        <p:spPr>
          <a:xfrm>
            <a:off x="5691960" y="83808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solution will be the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intersection of the graph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52" name="Object 7"/>
          <p:cNvGraphicFramePr/>
          <p:nvPr/>
        </p:nvGraphicFramePr>
        <p:xfrm>
          <a:off x="5681520" y="1641600"/>
          <a:ext cx="2428920" cy="49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81520" y="1641600"/>
                    <a:ext cx="24289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Text Box 8"/>
          <p:cNvSpPr/>
          <p:nvPr/>
        </p:nvSpPr>
        <p:spPr>
          <a:xfrm>
            <a:off x="5666400" y="2209680"/>
            <a:ext cx="23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nd the graph of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= 0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5" name="Oval 9"/>
          <p:cNvSpPr/>
          <p:nvPr/>
        </p:nvSpPr>
        <p:spPr>
          <a:xfrm>
            <a:off x="2590920" y="3203640"/>
            <a:ext cx="609480" cy="53316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5830560" y="3397320"/>
            <a:ext cx="2068920" cy="947160"/>
          </a:xfrm>
          <a:prstGeom prst="rect">
            <a:avLst/>
          </a:prstGeom>
          <a:solidFill>
            <a:srgbClr val="663300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1449720" y="42670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Check: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58" name="Object 12"/>
          <p:cNvGraphicFramePr/>
          <p:nvPr/>
        </p:nvGraphicFramePr>
        <p:xfrm>
          <a:off x="2209680" y="4800600"/>
          <a:ext cx="2344680" cy="501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9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4800600"/>
                    <a:ext cx="23446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Line 13"/>
          <p:cNvSpPr/>
          <p:nvPr/>
        </p:nvSpPr>
        <p:spPr>
          <a:xfrm>
            <a:off x="4800600" y="4711680"/>
            <a:ext cx="0" cy="20574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5014440" y="4754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62" name="Object 15"/>
          <p:cNvGraphicFramePr/>
          <p:nvPr/>
        </p:nvGraphicFramePr>
        <p:xfrm>
          <a:off x="1981080" y="5410080"/>
          <a:ext cx="2570400" cy="5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3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5410080"/>
                    <a:ext cx="25704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6"/>
          <p:cNvGraphicFramePr/>
          <p:nvPr/>
        </p:nvGraphicFramePr>
        <p:xfrm>
          <a:off x="2994120" y="5943600"/>
          <a:ext cx="1577880" cy="501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5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94120" y="5943600"/>
                    <a:ext cx="15778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7"/>
          <p:cNvGraphicFramePr/>
          <p:nvPr/>
        </p:nvGraphicFramePr>
        <p:xfrm>
          <a:off x="3444840" y="6405480"/>
          <a:ext cx="1127160" cy="40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7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44840" y="6405480"/>
                    <a:ext cx="11271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8"/>
          <p:cNvGraphicFramePr/>
          <p:nvPr/>
        </p:nvGraphicFramePr>
        <p:xfrm>
          <a:off x="5589720" y="4952880"/>
          <a:ext cx="1195200" cy="1752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9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89720" y="4952880"/>
                    <a:ext cx="11952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Text Box 20"/>
          <p:cNvSpPr/>
          <p:nvPr/>
        </p:nvSpPr>
        <p:spPr>
          <a:xfrm>
            <a:off x="1447920" y="763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a Radical Equation Graphically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1" name="Line 21"/>
          <p:cNvSpPr/>
          <p:nvPr/>
        </p:nvSpPr>
        <p:spPr>
          <a:xfrm>
            <a:off x="2590920" y="4724280"/>
            <a:ext cx="33526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3645000" y="42512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100000">
              <a:srgbClr val="e0e0e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Object 2"/>
          <p:cNvGraphicFramePr/>
          <p:nvPr/>
        </p:nvGraphicFramePr>
        <p:xfrm>
          <a:off x="1523880" y="711360"/>
          <a:ext cx="397692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11360"/>
                    <a:ext cx="3976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533520" y="1235160"/>
            <a:ext cx="8153280" cy="5622840"/>
          </a:xfrm>
          <a:prstGeom prst="rect">
            <a:avLst/>
          </a:prstGeom>
          <a:ln w="0">
            <a:noFill/>
          </a:ln>
        </p:spPr>
      </p:pic>
      <p:sp>
        <p:nvSpPr>
          <p:cNvPr id="376" name="Oval 4"/>
          <p:cNvSpPr/>
          <p:nvPr/>
        </p:nvSpPr>
        <p:spPr>
          <a:xfrm>
            <a:off x="2895480" y="3581280"/>
            <a:ext cx="68580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7315200" y="3581280"/>
            <a:ext cx="68580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4458600" y="4572000"/>
            <a:ext cx="2395080" cy="947160"/>
          </a:xfrm>
          <a:prstGeom prst="rect">
            <a:avLst/>
          </a:prstGeom>
          <a:solidFill>
            <a:srgbClr val="ffffd9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 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  or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7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505800" y="7761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0" y="763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a Radical Equation Graphically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505320" cy="34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Object 3"/>
          <p:cNvGraphicFramePr/>
          <p:nvPr/>
        </p:nvGraphicFramePr>
        <p:xfrm>
          <a:off x="1744560" y="774720"/>
          <a:ext cx="2675160" cy="48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4560" y="774720"/>
                    <a:ext cx="26751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4"/>
          <p:cNvSpPr/>
          <p:nvPr/>
        </p:nvSpPr>
        <p:spPr>
          <a:xfrm>
            <a:off x="5394960" y="988920"/>
            <a:ext cx="35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Find the values for which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graph of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85" name="Object 5"/>
          <p:cNvGraphicFramePr/>
          <p:nvPr/>
        </p:nvGraphicFramePr>
        <p:xfrm>
          <a:off x="5473800" y="1963800"/>
          <a:ext cx="2298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73800" y="1963800"/>
                    <a:ext cx="2298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 Box 6"/>
          <p:cNvSpPr/>
          <p:nvPr/>
        </p:nvSpPr>
        <p:spPr>
          <a:xfrm>
            <a:off x="5411160" y="2589120"/>
            <a:ext cx="296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is above the graph of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= 3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410080" y="3732120"/>
            <a:ext cx="32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graphs intersect at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= 4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533520" y="1371600"/>
            <a:ext cx="2936880" cy="14472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Note the radical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- 3 is defined only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when          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5549400" y="4951440"/>
            <a:ext cx="315540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is </a:t>
            </a: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&gt; 4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380880" y="2971800"/>
            <a:ext cx="3733920" cy="1828800"/>
          </a:xfrm>
          <a:prstGeom prst="rect">
            <a:avLst/>
          </a:prstGeom>
          <a:solidFill>
            <a:srgbClr val="49a4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2" name="Oval 8"/>
          <p:cNvSpPr/>
          <p:nvPr/>
        </p:nvSpPr>
        <p:spPr>
          <a:xfrm>
            <a:off x="2819520" y="4572000"/>
            <a:ext cx="457200" cy="457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3" name="Freeform 13"/>
          <p:cNvSpPr/>
          <p:nvPr/>
        </p:nvSpPr>
        <p:spPr>
          <a:xfrm>
            <a:off x="3030480" y="4046400"/>
            <a:ext cx="1038240" cy="755640"/>
          </a:xfrm>
          <a:custGeom>
            <a:avLst/>
            <a:gdLst/>
            <a:ahLst/>
            <a:rect l="l" t="t" r="r" b="b"/>
            <a:pathLst>
              <a:path w="654" h="476">
                <a:moveTo>
                  <a:pt x="17" y="465"/>
                </a:moveTo>
                <a:cubicBezTo>
                  <a:pt x="64" y="420"/>
                  <a:pt x="0" y="476"/>
                  <a:pt x="58" y="441"/>
                </a:cubicBezTo>
                <a:cubicBezTo>
                  <a:pt x="98" y="416"/>
                  <a:pt x="135" y="373"/>
                  <a:pt x="181" y="359"/>
                </a:cubicBezTo>
                <a:cubicBezTo>
                  <a:pt x="206" y="333"/>
                  <a:pt x="228" y="321"/>
                  <a:pt x="262" y="310"/>
                </a:cubicBezTo>
                <a:cubicBezTo>
                  <a:pt x="286" y="286"/>
                  <a:pt x="296" y="271"/>
                  <a:pt x="328" y="261"/>
                </a:cubicBezTo>
                <a:cubicBezTo>
                  <a:pt x="339" y="243"/>
                  <a:pt x="377" y="192"/>
                  <a:pt x="393" y="180"/>
                </a:cubicBezTo>
                <a:cubicBezTo>
                  <a:pt x="409" y="165"/>
                  <a:pt x="431" y="159"/>
                  <a:pt x="450" y="147"/>
                </a:cubicBezTo>
                <a:cubicBezTo>
                  <a:pt x="455" y="138"/>
                  <a:pt x="458" y="128"/>
                  <a:pt x="466" y="122"/>
                </a:cubicBezTo>
                <a:cubicBezTo>
                  <a:pt x="472" y="116"/>
                  <a:pt x="483" y="117"/>
                  <a:pt x="491" y="114"/>
                </a:cubicBezTo>
                <a:cubicBezTo>
                  <a:pt x="516" y="101"/>
                  <a:pt x="528" y="83"/>
                  <a:pt x="556" y="73"/>
                </a:cubicBezTo>
                <a:cubicBezTo>
                  <a:pt x="585" y="44"/>
                  <a:pt x="625" y="28"/>
                  <a:pt x="654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4" name="AutoShape 14"/>
          <p:cNvSpPr/>
          <p:nvPr/>
        </p:nvSpPr>
        <p:spPr>
          <a:xfrm>
            <a:off x="3048120" y="4572000"/>
            <a:ext cx="1371600" cy="485640"/>
          </a:xfrm>
          <a:prstGeom prst="rightArrow">
            <a:avLst>
              <a:gd name="adj1" fmla="val 50000"/>
              <a:gd name="adj2" fmla="val 70608"/>
            </a:avLst>
          </a:prstGeom>
          <a:solidFill>
            <a:srgbClr val="49a4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&gt; 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2209680" y="763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Radical Inequaliti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810720" y="801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97" name="Object 19"/>
          <p:cNvGraphicFramePr/>
          <p:nvPr/>
        </p:nvGraphicFramePr>
        <p:xfrm>
          <a:off x="1371600" y="2106720"/>
          <a:ext cx="685800" cy="6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8" name="Object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2106720"/>
                    <a:ext cx="6858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d3"/>
            </a:gs>
            <a:gs pos="50000">
              <a:srgbClr val="dceaec"/>
            </a:gs>
            <a:gs pos="100000">
              <a:srgbClr val="bdffd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0" y="1995480"/>
            <a:ext cx="6019920" cy="297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Object 3"/>
          <p:cNvGraphicFramePr/>
          <p:nvPr/>
        </p:nvGraphicFramePr>
        <p:xfrm>
          <a:off x="1741320" y="723960"/>
          <a:ext cx="2005200" cy="52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1320" y="723960"/>
                    <a:ext cx="20052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Text Box 4"/>
          <p:cNvSpPr/>
          <p:nvPr/>
        </p:nvSpPr>
        <p:spPr>
          <a:xfrm>
            <a:off x="6289560" y="4738680"/>
            <a:ext cx="2611440" cy="9471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 is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&lt; 8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6102720" y="3062160"/>
            <a:ext cx="28584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graphs intersect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t the point where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= 8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0" y="3164040"/>
            <a:ext cx="6019920" cy="2057400"/>
          </a:xfrm>
          <a:prstGeom prst="rect">
            <a:avLst/>
          </a:prstGeom>
          <a:solidFill>
            <a:srgbClr val="49a4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5" name="Oval 5"/>
          <p:cNvSpPr/>
          <p:nvPr/>
        </p:nvSpPr>
        <p:spPr>
          <a:xfrm>
            <a:off x="4495680" y="2833560"/>
            <a:ext cx="533520" cy="6098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6" name="Line 7"/>
          <p:cNvSpPr/>
          <p:nvPr/>
        </p:nvSpPr>
        <p:spPr>
          <a:xfrm flipV="1">
            <a:off x="4724280" y="1537920"/>
            <a:ext cx="0" cy="304812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7" name="Line 8"/>
          <p:cNvSpPr/>
          <p:nvPr/>
        </p:nvSpPr>
        <p:spPr>
          <a:xfrm flipV="1">
            <a:off x="1511280" y="1550520"/>
            <a:ext cx="0" cy="304812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1523880" y="4433760"/>
            <a:ext cx="3200400" cy="762120"/>
          </a:xfrm>
          <a:prstGeom prst="leftRightArrow">
            <a:avLst>
              <a:gd name="adj1" fmla="val 33991"/>
              <a:gd name="adj2" fmla="val 55194"/>
            </a:avLst>
          </a:prstGeom>
          <a:solidFill>
            <a:srgbClr val="ff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≥ -1 and </a:t>
            </a: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&lt;  8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9" name="Freeform 12"/>
          <p:cNvSpPr/>
          <p:nvPr/>
        </p:nvSpPr>
        <p:spPr>
          <a:xfrm>
            <a:off x="1503360" y="3137040"/>
            <a:ext cx="3265560" cy="1100160"/>
          </a:xfrm>
          <a:custGeom>
            <a:avLst/>
            <a:gdLst/>
            <a:ahLst/>
            <a:rect l="l" t="t" r="r" b="b"/>
            <a:pathLst>
              <a:path w="2057" h="693">
                <a:moveTo>
                  <a:pt x="0" y="693"/>
                </a:moveTo>
                <a:cubicBezTo>
                  <a:pt x="9" y="665"/>
                  <a:pt x="19" y="647"/>
                  <a:pt x="41" y="628"/>
                </a:cubicBezTo>
                <a:cubicBezTo>
                  <a:pt x="50" y="598"/>
                  <a:pt x="63" y="593"/>
                  <a:pt x="82" y="571"/>
                </a:cubicBezTo>
                <a:cubicBezTo>
                  <a:pt x="119" y="523"/>
                  <a:pt x="163" y="495"/>
                  <a:pt x="220" y="473"/>
                </a:cubicBezTo>
                <a:cubicBezTo>
                  <a:pt x="244" y="463"/>
                  <a:pt x="269" y="456"/>
                  <a:pt x="294" y="448"/>
                </a:cubicBezTo>
                <a:cubicBezTo>
                  <a:pt x="310" y="442"/>
                  <a:pt x="343" y="432"/>
                  <a:pt x="343" y="432"/>
                </a:cubicBezTo>
                <a:cubicBezTo>
                  <a:pt x="351" y="426"/>
                  <a:pt x="358" y="419"/>
                  <a:pt x="367" y="416"/>
                </a:cubicBezTo>
                <a:cubicBezTo>
                  <a:pt x="382" y="409"/>
                  <a:pt x="416" y="400"/>
                  <a:pt x="416" y="400"/>
                </a:cubicBezTo>
                <a:cubicBezTo>
                  <a:pt x="478" y="357"/>
                  <a:pt x="541" y="364"/>
                  <a:pt x="612" y="342"/>
                </a:cubicBezTo>
                <a:cubicBezTo>
                  <a:pt x="662" y="325"/>
                  <a:pt x="715" y="312"/>
                  <a:pt x="767" y="302"/>
                </a:cubicBezTo>
                <a:cubicBezTo>
                  <a:pt x="796" y="272"/>
                  <a:pt x="834" y="273"/>
                  <a:pt x="873" y="261"/>
                </a:cubicBezTo>
                <a:cubicBezTo>
                  <a:pt x="922" y="211"/>
                  <a:pt x="1063" y="196"/>
                  <a:pt x="1135" y="187"/>
                </a:cubicBezTo>
                <a:cubicBezTo>
                  <a:pt x="1219" y="158"/>
                  <a:pt x="1297" y="152"/>
                  <a:pt x="1388" y="146"/>
                </a:cubicBezTo>
                <a:cubicBezTo>
                  <a:pt x="1451" y="135"/>
                  <a:pt x="1511" y="120"/>
                  <a:pt x="1575" y="114"/>
                </a:cubicBezTo>
                <a:cubicBezTo>
                  <a:pt x="1656" y="94"/>
                  <a:pt x="1736" y="71"/>
                  <a:pt x="1820" y="57"/>
                </a:cubicBezTo>
                <a:cubicBezTo>
                  <a:pt x="1837" y="53"/>
                  <a:pt x="1900" y="44"/>
                  <a:pt x="1918" y="40"/>
                </a:cubicBezTo>
                <a:cubicBezTo>
                  <a:pt x="1943" y="33"/>
                  <a:pt x="1966" y="20"/>
                  <a:pt x="1992" y="16"/>
                </a:cubicBezTo>
                <a:cubicBezTo>
                  <a:pt x="2046" y="7"/>
                  <a:pt x="2026" y="15"/>
                  <a:pt x="2057" y="0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5852520" y="7603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&gt; -1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1" name="Text Box 15"/>
          <p:cNvSpPr/>
          <p:nvPr/>
        </p:nvSpPr>
        <p:spPr>
          <a:xfrm>
            <a:off x="25560" y="763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Radical Inequaliti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763200" y="801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32200" y="577800"/>
            <a:ext cx="851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n equation in which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variable occurs in the radican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s called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radical equation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It should be noted, that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when solving a radical equation algebraically,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xtraneous root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may be introduced when both sides of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n equation are squared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you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must check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your solutions for a radical equation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68280" y="341136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olve:  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- 3 = 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765440" y="3448080"/>
            <a:ext cx="76176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892160" y="394488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=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Line 6"/>
          <p:cNvSpPr/>
          <p:nvPr/>
        </p:nvSpPr>
        <p:spPr>
          <a:xfrm>
            <a:off x="2184480" y="3981600"/>
            <a:ext cx="8380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483920" y="446400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(3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1879560" y="4502160"/>
            <a:ext cx="8380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197080" y="5087880"/>
            <a:ext cx="162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= 9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184360" y="3124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778000" y="386856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083280" y="3905280"/>
            <a:ext cx="68580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717160" y="44784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6048360" y="4514760"/>
            <a:ext cx="990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658200" y="4935600"/>
            <a:ext cx="8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3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7924680" y="3701880"/>
            <a:ext cx="0" cy="28958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8443800" y="3792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3858480" y="5835600"/>
            <a:ext cx="3644640" cy="947160"/>
          </a:xfrm>
          <a:prstGeom prst="rect">
            <a:avLst/>
          </a:prstGeom>
          <a:solidFill>
            <a:srgbClr val="bdffd3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the solu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4192200" y="3473280"/>
            <a:ext cx="8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≥ 3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3096720" y="14400"/>
            <a:ext cx="29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6019920" y="3708360"/>
            <a:ext cx="312408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6632640" y="3276720"/>
            <a:ext cx="22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0" y="0"/>
          <a:ext cx="91440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514600" y="533520"/>
                <a:ext cx="4349880" cy="49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2057400" y="228600"/>
                <a:ext cx="508788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77360" y="86688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√ 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434960" y="1523880"/>
            <a:ext cx="83844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66800" y="1476360"/>
            <a:ext cx="27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√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4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59000" y="888840"/>
            <a:ext cx="91440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282680" y="1981080"/>
            <a:ext cx="91440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451880" y="2390760"/>
            <a:ext cx="30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8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16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8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7848720" y="1066680"/>
            <a:ext cx="0" cy="53341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8215200" y="108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33" name="Object 13"/>
          <p:cNvGraphicFramePr/>
          <p:nvPr/>
        </p:nvGraphicFramePr>
        <p:xfrm>
          <a:off x="8305920" y="1752480"/>
          <a:ext cx="2984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1752480"/>
                    <a:ext cx="298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4"/>
          <p:cNvSpPr/>
          <p:nvPr/>
        </p:nvSpPr>
        <p:spPr>
          <a:xfrm>
            <a:off x="5715000" y="1676520"/>
            <a:ext cx="312408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1146240" y="4335480"/>
          <a:ext cx="121608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6240" y="4335480"/>
                    <a:ext cx="12160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16"/>
          <p:cNvSpPr/>
          <p:nvPr/>
        </p:nvSpPr>
        <p:spPr>
          <a:xfrm>
            <a:off x="230400" y="451008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2363760" y="451008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solution of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91240" y="534816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41" name="Object 19"/>
          <p:cNvGraphicFramePr/>
          <p:nvPr/>
        </p:nvGraphicFramePr>
        <p:xfrm>
          <a:off x="863640" y="5207040"/>
          <a:ext cx="33012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3640" y="5207040"/>
                    <a:ext cx="330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20"/>
          <p:cNvSpPr/>
          <p:nvPr/>
        </p:nvSpPr>
        <p:spPr>
          <a:xfrm>
            <a:off x="234000" y="5057640"/>
            <a:ext cx="50086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s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extraneou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 are no real roots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4194000" y="9907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45" name="Object 22"/>
          <p:cNvGraphicFramePr/>
          <p:nvPr/>
        </p:nvGraphicFramePr>
        <p:xfrm>
          <a:off x="5943600" y="1066680"/>
          <a:ext cx="174636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1066680"/>
                    <a:ext cx="1746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23"/>
          <p:cNvGraphicFramePr/>
          <p:nvPr/>
        </p:nvGraphicFramePr>
        <p:xfrm>
          <a:off x="5943600" y="1752480"/>
          <a:ext cx="1752480" cy="852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1752480"/>
                    <a:ext cx="17524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24"/>
          <p:cNvGraphicFramePr/>
          <p:nvPr/>
        </p:nvGraphicFramePr>
        <p:xfrm>
          <a:off x="6095880" y="2836800"/>
          <a:ext cx="1447920" cy="82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2836800"/>
                    <a:ext cx="14479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25"/>
          <p:cNvGraphicFramePr/>
          <p:nvPr/>
        </p:nvGraphicFramePr>
        <p:xfrm>
          <a:off x="6400800" y="3809880"/>
          <a:ext cx="1143000" cy="85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00800" y="3809880"/>
                    <a:ext cx="11430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26"/>
          <p:cNvGraphicFramePr/>
          <p:nvPr/>
        </p:nvGraphicFramePr>
        <p:xfrm>
          <a:off x="6705720" y="4803840"/>
          <a:ext cx="869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Object 2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05720" y="4803840"/>
                    <a:ext cx="869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7"/>
          <p:cNvGraphicFramePr/>
          <p:nvPr/>
        </p:nvGraphicFramePr>
        <p:xfrm>
          <a:off x="7086600" y="5791320"/>
          <a:ext cx="461880" cy="863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86600" y="5791320"/>
                    <a:ext cx="461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28"/>
          <p:cNvGraphicFramePr/>
          <p:nvPr/>
        </p:nvGraphicFramePr>
        <p:xfrm>
          <a:off x="8107200" y="5791320"/>
          <a:ext cx="358920" cy="91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8" name="Object 2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107200" y="5791320"/>
                    <a:ext cx="358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29"/>
          <p:cNvSpPr/>
          <p:nvPr/>
        </p:nvSpPr>
        <p:spPr>
          <a:xfrm>
            <a:off x="7621920" y="58672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≠</a:t>
            </a:r>
            <a:endParaRPr b="0" lang="en-US" sz="4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30"/>
          <p:cNvSpPr/>
          <p:nvPr/>
        </p:nvSpPr>
        <p:spPr>
          <a:xfrm>
            <a:off x="871200" y="1944720"/>
            <a:ext cx="29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4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61" name="Object 32"/>
          <p:cNvGraphicFramePr/>
          <p:nvPr/>
        </p:nvGraphicFramePr>
        <p:xfrm>
          <a:off x="2184480" y="3327480"/>
          <a:ext cx="900000" cy="83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2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84480" y="3327480"/>
                    <a:ext cx="900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33"/>
          <p:cNvSpPr/>
          <p:nvPr/>
        </p:nvSpPr>
        <p:spPr>
          <a:xfrm>
            <a:off x="2362680" y="-4608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Object 2" descr=""/>
          <p:cNvPicPr/>
          <p:nvPr/>
        </p:nvPicPr>
        <p:blipFill>
          <a:blip r:embed="rId1"/>
          <a:stretch/>
        </p:blipFill>
        <p:spPr>
          <a:xfrm>
            <a:off x="0" y="7632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9:19:20Z</dcterms:modified>
  <cp:revision>65</cp:revision>
  <dc:subject/>
  <dc:title>No Slide Title</dc:title>
</cp:coreProperties>
</file>